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98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70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83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23.png" ContentType="image/png"/>
  <Override PartName="/ppt/media/image60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wmf" ContentType="image/x-wmf"/>
  <Override PartName="/ppt/media/image71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87.png" ContentType="image/png"/>
  <Override PartName="/ppt/media/image94.jpeg" ContentType="image/jpeg"/>
  <Override PartName="/ppt/media/image88.png" ContentType="image/png"/>
  <Override PartName="/ppt/media/image76.png" ContentType="image/png"/>
  <Override PartName="/ppt/media/image62.png" ContentType="image/png"/>
  <Override PartName="/ppt/media/image102.wmf" ContentType="image/x-wmf"/>
  <Override PartName="/ppt/media/image82.wmf" ContentType="image/x-wmf"/>
  <Override PartName="/ppt/media/image79.png" ContentType="image/png"/>
  <Override PartName="/ppt/media/image101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99.wmf" ContentType="image/x-wmf"/>
  <Override PartName="/ppt/media/image21.png" ContentType="image/png"/>
  <Override PartName="/ppt/media/image58.png" ContentType="image/png"/>
  <Override PartName="/ppt/media/image18.jpeg" ContentType="image/jpeg"/>
  <Override PartName="/ppt/media/image97.wmf" ContentType="image/x-wmf"/>
  <Override PartName="/ppt/media/image24.png" ContentType="image/png"/>
  <Override PartName="/ppt/media/image90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93.jpeg" ContentType="image/jpeg"/>
  <Override PartName="/ppt/media/image32.png" ContentType="image/png"/>
  <Override PartName="/ppt/media/image91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0175-968F-403D-85DE-139D5C1A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5BF-40D6-43A1-A7F1-6F9D6C2F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FE1-4A5A-42AF-804D-7A0963DA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9D6-E43A-4FDB-B596-305637B2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563-ECA8-405B-8172-26484349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1DF-E11D-4DAF-902C-99488E1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FB2-1E68-4FD1-A761-EEB6406D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939-070A-498E-B577-C348D2F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E7A-75D7-473F-8083-1732733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950-1A17-436F-A393-6381020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040-98A9-4CF7-9F50-D0D9BD6D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FB1-13D0-4BE6-B8CC-65DC74E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A8C-2C96-4A40-B980-9ABCAC7F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6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0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2.wmf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9.wmf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0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086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34080" cy="6715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639960" y="129528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721400" cy="60199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5067360" cy="68295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572000" y="28440"/>
            <a:ext cx="5067360" cy="682956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8793000" y="6477120"/>
            <a:ext cx="7318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600" y="914400"/>
            <a:ext cx="9010800" cy="50292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513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14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16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7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33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34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6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38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40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1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2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43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71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3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5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9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87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88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94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6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1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37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60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82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4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98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1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703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712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4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15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28" name="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0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2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3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35" name="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6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2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53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943280" y="414360"/>
            <a:ext cx="5257800" cy="6029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819520" y="380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633240" y="76320"/>
            <a:ext cx="7877520" cy="65624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457200" y="5181480"/>
            <a:ext cx="77724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23880" y="152280"/>
            <a:ext cx="6098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80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2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92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800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1" name="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6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807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16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23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24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5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6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27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0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31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45" name="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7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60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61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64" name="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67" name="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70" name="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43800" y="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TUDE MODULATED (AM)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7960" y="304920"/>
            <a:ext cx="88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udio signals do not propagate well in atmosphere – they get attenuated very quick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5880" y="669960"/>
            <a:ext cx="925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Solution: Move the audio signals to a different frequency range for broadca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range 540kHz – 1700kHz is reserved for AM modulated broadca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19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880" name=""/>
          <p:cNvGrpSpPr/>
          <p:nvPr/>
        </p:nvGrpSpPr>
        <p:grpSpPr>
          <a:xfrm>
            <a:off x="1671480" y="1265400"/>
            <a:ext cx="3142800" cy="824400"/>
            <a:chOff x="1671480" y="1265400"/>
            <a:chExt cx="3142800" cy="824400"/>
          </a:xfrm>
        </p:grpSpPr>
        <p:sp>
          <p:nvSpPr>
            <p:cNvPr id="881" name=""/>
            <p:cNvSpPr/>
            <p:nvPr/>
          </p:nvSpPr>
          <p:spPr>
            <a:xfrm>
              <a:off x="1671480" y="1265400"/>
              <a:ext cx="665280" cy="502920"/>
            </a:xfrm>
            <a:custGeom>
              <a:avLst/>
              <a:gdLst/>
              <a:ahLst/>
              <a:rect l="l" t="t" r="r" b="b"/>
              <a:pathLst>
                <a:path w="419" h="317">
                  <a:moveTo>
                    <a:pt x="99" y="19"/>
                  </a:moveTo>
                  <a:cubicBezTo>
                    <a:pt x="60" y="45"/>
                    <a:pt x="67" y="58"/>
                    <a:pt x="41" y="96"/>
                  </a:cubicBezTo>
                  <a:cubicBezTo>
                    <a:pt x="0" y="229"/>
                    <a:pt x="65" y="288"/>
                    <a:pt x="176" y="317"/>
                  </a:cubicBezTo>
                  <a:cubicBezTo>
                    <a:pt x="208" y="314"/>
                    <a:pt x="240" y="313"/>
                    <a:pt x="272" y="307"/>
                  </a:cubicBezTo>
                  <a:cubicBezTo>
                    <a:pt x="292" y="303"/>
                    <a:pt x="329" y="288"/>
                    <a:pt x="329" y="288"/>
                  </a:cubicBezTo>
                  <a:cubicBezTo>
                    <a:pt x="383" y="252"/>
                    <a:pt x="388" y="203"/>
                    <a:pt x="406" y="144"/>
                  </a:cubicBezTo>
                  <a:cubicBezTo>
                    <a:pt x="395" y="32"/>
                    <a:pt x="419" y="23"/>
                    <a:pt x="320" y="0"/>
                  </a:cubicBezTo>
                  <a:cubicBezTo>
                    <a:pt x="285" y="3"/>
                    <a:pt x="232" y="1"/>
                    <a:pt x="195" y="19"/>
                  </a:cubicBezTo>
                  <a:cubicBezTo>
                    <a:pt x="186" y="23"/>
                    <a:pt x="151" y="52"/>
                    <a:pt x="137" y="48"/>
                  </a:cubicBezTo>
                  <a:cubicBezTo>
                    <a:pt x="122" y="44"/>
                    <a:pt x="112" y="29"/>
                    <a:pt x="99" y="19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23320" y="1752480"/>
              <a:ext cx="14302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55760" y="1281240"/>
              <a:ext cx="1096920" cy="471240"/>
            </a:xfrm>
            <a:custGeom>
              <a:avLst/>
              <a:gdLst/>
              <a:ahLst/>
              <a:rect l="l" t="t" r="r" b="b"/>
              <a:pathLst>
                <a:path w="691" h="297">
                  <a:moveTo>
                    <a:pt x="691" y="191"/>
                  </a:moveTo>
                  <a:cubicBezTo>
                    <a:pt x="688" y="175"/>
                    <a:pt x="682" y="126"/>
                    <a:pt x="672" y="105"/>
                  </a:cubicBezTo>
                  <a:cubicBezTo>
                    <a:pt x="622" y="1"/>
                    <a:pt x="477" y="16"/>
                    <a:pt x="384" y="9"/>
                  </a:cubicBezTo>
                  <a:cubicBezTo>
                    <a:pt x="247" y="14"/>
                    <a:pt x="168" y="0"/>
                    <a:pt x="57" y="38"/>
                  </a:cubicBezTo>
                  <a:cubicBezTo>
                    <a:pt x="24" y="72"/>
                    <a:pt x="14" y="109"/>
                    <a:pt x="0" y="153"/>
                  </a:cubicBezTo>
                  <a:cubicBezTo>
                    <a:pt x="3" y="172"/>
                    <a:pt x="2" y="193"/>
                    <a:pt x="9" y="211"/>
                  </a:cubicBezTo>
                  <a:cubicBezTo>
                    <a:pt x="12" y="220"/>
                    <a:pt x="22" y="225"/>
                    <a:pt x="29" y="230"/>
                  </a:cubicBezTo>
                  <a:cubicBezTo>
                    <a:pt x="106" y="287"/>
                    <a:pt x="144" y="267"/>
                    <a:pt x="230" y="297"/>
                  </a:cubicBezTo>
                  <a:cubicBezTo>
                    <a:pt x="362" y="292"/>
                    <a:pt x="478" y="290"/>
                    <a:pt x="605" y="268"/>
                  </a:cubicBezTo>
                  <a:cubicBezTo>
                    <a:pt x="635" y="247"/>
                    <a:pt x="675" y="224"/>
                    <a:pt x="691" y="19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62960" y="1279440"/>
              <a:ext cx="16513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rier 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120240" y="1660680"/>
            <a:ext cx="14457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oadca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41200" y="1219320"/>
            <a:ext cx="627120" cy="522000"/>
          </a:xfrm>
          <a:custGeom>
            <a:avLst/>
            <a:gdLst/>
            <a:ahLst/>
            <a:rect l="l" t="t" r="r" b="b"/>
            <a:pathLst>
              <a:path w="395" h="329">
                <a:moveTo>
                  <a:pt x="395" y="182"/>
                </a:moveTo>
                <a:cubicBezTo>
                  <a:pt x="367" y="98"/>
                  <a:pt x="322" y="24"/>
                  <a:pt x="232" y="0"/>
                </a:cubicBezTo>
                <a:cubicBezTo>
                  <a:pt x="194" y="3"/>
                  <a:pt x="155" y="5"/>
                  <a:pt x="117" y="10"/>
                </a:cubicBezTo>
                <a:cubicBezTo>
                  <a:pt x="47" y="19"/>
                  <a:pt x="20" y="86"/>
                  <a:pt x="2" y="144"/>
                </a:cubicBezTo>
                <a:cubicBezTo>
                  <a:pt x="9" y="208"/>
                  <a:pt x="0" y="236"/>
                  <a:pt x="50" y="269"/>
                </a:cubicBezTo>
                <a:cubicBezTo>
                  <a:pt x="85" y="323"/>
                  <a:pt x="152" y="319"/>
                  <a:pt x="213" y="326"/>
                </a:cubicBezTo>
                <a:cubicBezTo>
                  <a:pt x="293" y="318"/>
                  <a:pt x="316" y="329"/>
                  <a:pt x="366" y="278"/>
                </a:cubicBezTo>
                <a:cubicBezTo>
                  <a:pt x="390" y="208"/>
                  <a:pt x="381" y="241"/>
                  <a:pt x="395" y="18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254560" y="1279440"/>
            <a:ext cx="385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 receivers pick a faint copy of 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889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90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2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4" name=""/>
          <p:cNvGrpSpPr/>
          <p:nvPr/>
        </p:nvGrpSpPr>
        <p:grpSpPr>
          <a:xfrm>
            <a:off x="228600" y="2438280"/>
            <a:ext cx="8667720" cy="1533600"/>
            <a:chOff x="228600" y="2438280"/>
            <a:chExt cx="8667720" cy="1533600"/>
          </a:xfrm>
        </p:grpSpPr>
        <p:pic>
          <p:nvPicPr>
            <p:cNvPr id="895" name="" descr=""/>
            <p:cNvPicPr/>
            <p:nvPr/>
          </p:nvPicPr>
          <p:blipFill>
            <a:blip r:embed="rId7"/>
            <a:stretch/>
          </p:blipFill>
          <p:spPr>
            <a:xfrm>
              <a:off x="228600" y="2666880"/>
              <a:ext cx="54864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8"/>
            <a:stretch/>
          </p:blipFill>
          <p:spPr>
            <a:xfrm>
              <a:off x="6095880" y="2438280"/>
              <a:ext cx="2800440" cy="153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7" name="" descr=""/>
          <p:cNvPicPr/>
          <p:nvPr/>
        </p:nvPicPr>
        <p:blipFill>
          <a:blip r:embed="rId9"/>
          <a:stretch/>
        </p:blipFill>
        <p:spPr>
          <a:xfrm>
            <a:off x="0" y="3429000"/>
            <a:ext cx="5924520" cy="51444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0" y="4038480"/>
            <a:ext cx="4533840" cy="40968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0" y="4495680"/>
            <a:ext cx="9191520" cy="704880"/>
            <a:chOff x="0" y="4495680"/>
            <a:chExt cx="9191520" cy="704880"/>
          </a:xfrm>
        </p:grpSpPr>
        <p:pic>
          <p:nvPicPr>
            <p:cNvPr id="900" name="" descr=""/>
            <p:cNvPicPr/>
            <p:nvPr/>
          </p:nvPicPr>
          <p:blipFill>
            <a:blip r:embed="rId11"/>
            <a:stretch/>
          </p:blipFill>
          <p:spPr>
            <a:xfrm>
              <a:off x="0" y="4495680"/>
              <a:ext cx="38289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2"/>
            <a:stretch/>
          </p:blipFill>
          <p:spPr>
            <a:xfrm>
              <a:off x="3962520" y="4495680"/>
              <a:ext cx="52290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"/>
          <p:cNvGrpSpPr/>
          <p:nvPr/>
        </p:nvGrpSpPr>
        <p:grpSpPr>
          <a:xfrm>
            <a:off x="457200" y="5181480"/>
            <a:ext cx="8243640" cy="1562400"/>
            <a:chOff x="457200" y="5181480"/>
            <a:chExt cx="8243640" cy="1562400"/>
          </a:xfrm>
        </p:grpSpPr>
        <p:pic>
          <p:nvPicPr>
            <p:cNvPr id="903" name="" descr=""/>
            <p:cNvPicPr/>
            <p:nvPr/>
          </p:nvPicPr>
          <p:blipFill>
            <a:blip r:embed="rId13"/>
            <a:stretch/>
          </p:blipFill>
          <p:spPr>
            <a:xfrm>
              <a:off x="457200" y="5181480"/>
              <a:ext cx="647712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109200" y="5181480"/>
              <a:ext cx="2591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hing in audio rang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" descr=""/>
          <p:cNvPicPr/>
          <p:nvPr/>
        </p:nvPicPr>
        <p:blipFill>
          <a:blip r:embed="rId1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0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3818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09" name=""/>
          <p:cNvGrpSpPr/>
          <p:nvPr/>
        </p:nvGrpSpPr>
        <p:grpSpPr>
          <a:xfrm>
            <a:off x="1050840" y="2133720"/>
            <a:ext cx="6904440" cy="2454840"/>
            <a:chOff x="1050840" y="2133720"/>
            <a:chExt cx="6904440" cy="2454840"/>
          </a:xfrm>
        </p:grpSpPr>
        <p:pic>
          <p:nvPicPr>
            <p:cNvPr id="910" name="" descr=""/>
            <p:cNvPicPr/>
            <p:nvPr/>
          </p:nvPicPr>
          <p:blipFill>
            <a:blip r:embed="rId2"/>
            <a:stretch/>
          </p:blipFill>
          <p:spPr>
            <a:xfrm>
              <a:off x="1676520" y="2133720"/>
              <a:ext cx="52959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1050840" y="4251240"/>
              <a:ext cx="6904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dio signal has been AM modulated to the radio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114800" y="1676520"/>
            <a:ext cx="4723920" cy="761400"/>
            <a:chOff x="4114800" y="1676520"/>
            <a:chExt cx="4723920" cy="761400"/>
          </a:xfrm>
        </p:grpSpPr>
        <p:pic>
          <p:nvPicPr>
            <p:cNvPr id="913" name="" descr=""/>
            <p:cNvPicPr/>
            <p:nvPr/>
          </p:nvPicPr>
          <p:blipFill>
            <a:blip r:embed="rId3"/>
            <a:stretch/>
          </p:blipFill>
          <p:spPr>
            <a:xfrm>
              <a:off x="4114800" y="1676520"/>
              <a:ext cx="188568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14" name=""/>
            <p:cNvGraphicFramePr/>
            <p:nvPr/>
          </p:nvGraphicFramePr>
          <p:xfrm>
            <a:off x="6095880" y="1752480"/>
            <a:ext cx="2742840" cy="30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5880" y="1752480"/>
                      <a:ext cx="274284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6" name=""/>
            <p:cNvGraphicFramePr/>
            <p:nvPr/>
          </p:nvGraphicFramePr>
          <p:xfrm>
            <a:off x="5028840" y="2133360"/>
            <a:ext cx="2323800" cy="304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8840" y="2133360"/>
                      <a:ext cx="23238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18" name="" descr=""/>
          <p:cNvPicPr/>
          <p:nvPr/>
        </p:nvPicPr>
        <p:blipFill>
          <a:blip r:embed="rId8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00440" y="6048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71680" y="60480"/>
            <a:ext cx="3465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IN POW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4048200" cy="23526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086360" cy="281952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5410080" y="457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1676520" y="2514600"/>
          <a:ext cx="1066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14600"/>
                    <a:ext cx="1066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457200" y="2895480"/>
            <a:ext cx="4371840" cy="2858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228600" y="3276720"/>
            <a:ext cx="6610320" cy="30456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304920" y="3657600"/>
            <a:ext cx="1847880" cy="695160"/>
          </a:xfrm>
          <a:prstGeom prst="rect">
            <a:avLst/>
          </a:prstGeom>
          <a:ln w="25560">
            <a:solidFill>
              <a:srgbClr val="ccffcc"/>
            </a:solidFill>
            <a:miter/>
          </a:ln>
        </p:spPr>
      </p:pic>
      <p:pic>
        <p:nvPicPr>
          <p:cNvPr id="931" name="" descr=""/>
          <p:cNvPicPr/>
          <p:nvPr/>
        </p:nvPicPr>
        <p:blipFill>
          <a:blip r:embed="rId8"/>
          <a:stretch/>
        </p:blipFill>
        <p:spPr>
          <a:xfrm>
            <a:off x="2209680" y="3581280"/>
            <a:ext cx="4505400" cy="28861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124080" y="3581280"/>
            <a:ext cx="685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9"/>
          <a:stretch/>
        </p:blipFill>
        <p:spPr>
          <a:xfrm>
            <a:off x="76320" y="6400800"/>
            <a:ext cx="5324400" cy="3430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6207840" y="4540320"/>
            <a:ext cx="253548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rmonics account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01.8W or 9.14%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0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6095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>
            <a:hlinkClick r:id="" action="ppaction://hlinkshowjump?jump=previousslide"/>
          </p:cNvPr>
          <p:cNvSpPr/>
          <p:nvPr/>
        </p:nvSpPr>
        <p:spPr>
          <a:xfrm>
            <a:off x="55627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946" name="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949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951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955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8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960" name="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6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1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4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976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79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1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2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3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97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98" name="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0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1008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1011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1014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6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9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1020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1035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1038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1045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6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9" name="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0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24120" y="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409840" cy="20574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1576800" y="60480"/>
            <a:ext cx="408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FREQUENCY “TRAP”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75720" y="6699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TC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2590920" y="1066680"/>
          <a:ext cx="3492360" cy="133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066680"/>
                    <a:ext cx="34923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6248520" y="1371600"/>
          <a:ext cx="259056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371600"/>
                    <a:ext cx="25905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0" name=""/>
          <p:cNvGrpSpPr/>
          <p:nvPr/>
        </p:nvGrpSpPr>
        <p:grpSpPr>
          <a:xfrm>
            <a:off x="6899400" y="14400"/>
            <a:ext cx="1928520" cy="1673280"/>
            <a:chOff x="6899400" y="14400"/>
            <a:chExt cx="1928520" cy="1673280"/>
          </a:xfrm>
        </p:grpSpPr>
        <p:graphicFrame>
          <p:nvGraphicFramePr>
            <p:cNvPr id="1081" name=""/>
            <p:cNvGraphicFramePr/>
            <p:nvPr/>
          </p:nvGraphicFramePr>
          <p:xfrm>
            <a:off x="7238880" y="228600"/>
            <a:ext cx="1371600" cy="78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38880" y="228600"/>
                      <a:ext cx="137160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3" name=""/>
            <p:cNvSpPr/>
            <p:nvPr/>
          </p:nvSpPr>
          <p:spPr>
            <a:xfrm>
              <a:off x="6899400" y="14400"/>
              <a:ext cx="1928520" cy="1673280"/>
            </a:xfrm>
            <a:custGeom>
              <a:avLst/>
              <a:gdLst/>
              <a:ahLst/>
              <a:rect l="l" t="t" r="r" b="b"/>
              <a:pathLst>
                <a:path w="1215" h="1054">
                  <a:moveTo>
                    <a:pt x="1215" y="339"/>
                  </a:moveTo>
                  <a:cubicBezTo>
                    <a:pt x="1215" y="339"/>
                    <a:pt x="1200" y="212"/>
                    <a:pt x="1196" y="200"/>
                  </a:cubicBezTo>
                  <a:cubicBezTo>
                    <a:pt x="1181" y="155"/>
                    <a:pt x="1136" y="105"/>
                    <a:pt x="1096" y="80"/>
                  </a:cubicBezTo>
                  <a:cubicBezTo>
                    <a:pt x="1066" y="62"/>
                    <a:pt x="998" y="58"/>
                    <a:pt x="967" y="51"/>
                  </a:cubicBezTo>
                  <a:cubicBezTo>
                    <a:pt x="802" y="13"/>
                    <a:pt x="987" y="46"/>
                    <a:pt x="838" y="21"/>
                  </a:cubicBezTo>
                  <a:cubicBezTo>
                    <a:pt x="767" y="23"/>
                    <a:pt x="425" y="0"/>
                    <a:pt x="272" y="51"/>
                  </a:cubicBezTo>
                  <a:cubicBezTo>
                    <a:pt x="225" y="84"/>
                    <a:pt x="197" y="97"/>
                    <a:pt x="163" y="140"/>
                  </a:cubicBezTo>
                  <a:cubicBezTo>
                    <a:pt x="148" y="159"/>
                    <a:pt x="134" y="179"/>
                    <a:pt x="123" y="200"/>
                  </a:cubicBezTo>
                  <a:cubicBezTo>
                    <a:pt x="110" y="226"/>
                    <a:pt x="101" y="256"/>
                    <a:pt x="83" y="279"/>
                  </a:cubicBezTo>
                  <a:cubicBezTo>
                    <a:pt x="46" y="327"/>
                    <a:pt x="23" y="370"/>
                    <a:pt x="4" y="428"/>
                  </a:cubicBezTo>
                  <a:cubicBezTo>
                    <a:pt x="11" y="507"/>
                    <a:pt x="0" y="569"/>
                    <a:pt x="83" y="597"/>
                  </a:cubicBezTo>
                  <a:cubicBezTo>
                    <a:pt x="154" y="668"/>
                    <a:pt x="90" y="612"/>
                    <a:pt x="202" y="676"/>
                  </a:cubicBezTo>
                  <a:cubicBezTo>
                    <a:pt x="235" y="695"/>
                    <a:pt x="265" y="724"/>
                    <a:pt x="302" y="736"/>
                  </a:cubicBezTo>
                  <a:cubicBezTo>
                    <a:pt x="371" y="759"/>
                    <a:pt x="449" y="789"/>
                    <a:pt x="520" y="805"/>
                  </a:cubicBezTo>
                  <a:cubicBezTo>
                    <a:pt x="581" y="819"/>
                    <a:pt x="647" y="823"/>
                    <a:pt x="709" y="835"/>
                  </a:cubicBezTo>
                  <a:cubicBezTo>
                    <a:pt x="816" y="827"/>
                    <a:pt x="1016" y="821"/>
                    <a:pt x="1106" y="746"/>
                  </a:cubicBezTo>
                  <a:cubicBezTo>
                    <a:pt x="1141" y="717"/>
                    <a:pt x="1148" y="698"/>
                    <a:pt x="1176" y="656"/>
                  </a:cubicBezTo>
                  <a:cubicBezTo>
                    <a:pt x="1189" y="636"/>
                    <a:pt x="1149" y="696"/>
                    <a:pt x="1136" y="716"/>
                  </a:cubicBezTo>
                  <a:cubicBezTo>
                    <a:pt x="1123" y="736"/>
                    <a:pt x="1109" y="756"/>
                    <a:pt x="1096" y="776"/>
                  </a:cubicBezTo>
                  <a:cubicBezTo>
                    <a:pt x="1089" y="786"/>
                    <a:pt x="1076" y="805"/>
                    <a:pt x="1076" y="805"/>
                  </a:cubicBezTo>
                  <a:cubicBezTo>
                    <a:pt x="1063" y="859"/>
                    <a:pt x="1042" y="895"/>
                    <a:pt x="997" y="925"/>
                  </a:cubicBezTo>
                  <a:cubicBezTo>
                    <a:pt x="979" y="977"/>
                    <a:pt x="999" y="934"/>
                    <a:pt x="957" y="984"/>
                  </a:cubicBezTo>
                  <a:cubicBezTo>
                    <a:pt x="915" y="1034"/>
                    <a:pt x="913" y="1027"/>
                    <a:pt x="858" y="105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76320" y="2895480"/>
            <a:ext cx="3562200" cy="2531520"/>
            <a:chOff x="76320" y="2895480"/>
            <a:chExt cx="3562200" cy="2531520"/>
          </a:xfrm>
        </p:grpSpPr>
        <p:pic>
          <p:nvPicPr>
            <p:cNvPr id="1085" name="" descr=""/>
            <p:cNvPicPr/>
            <p:nvPr/>
          </p:nvPicPr>
          <p:blipFill>
            <a:blip r:embed="rId8"/>
            <a:stretch/>
          </p:blipFill>
          <p:spPr>
            <a:xfrm>
              <a:off x="76320" y="2895480"/>
              <a:ext cx="356220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82960" y="5089680"/>
              <a:ext cx="258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e frequency t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426120" y="2743200"/>
            <a:ext cx="5108400" cy="3141000"/>
            <a:chOff x="3426120" y="2743200"/>
            <a:chExt cx="5108400" cy="3141000"/>
          </a:xfrm>
        </p:grpSpPr>
        <p:pic>
          <p:nvPicPr>
            <p:cNvPr id="1088" name="" descr=""/>
            <p:cNvPicPr/>
            <p:nvPr/>
          </p:nvPicPr>
          <p:blipFill>
            <a:blip r:embed="rId9"/>
            <a:stretch/>
          </p:blipFill>
          <p:spPr>
            <a:xfrm>
              <a:off x="3733920" y="3124080"/>
              <a:ext cx="4800600" cy="241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89" name=""/>
            <p:cNvGraphicFramePr/>
            <p:nvPr/>
          </p:nvGraphicFramePr>
          <p:xfrm>
            <a:off x="4648320" y="2743200"/>
            <a:ext cx="194292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2743200"/>
                      <a:ext cx="19429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1" name=""/>
            <p:cNvSpPr/>
            <p:nvPr/>
          </p:nvSpPr>
          <p:spPr>
            <a:xfrm>
              <a:off x="3426120" y="5546880"/>
              <a:ext cx="37317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iminates 10kHz, 20kHz and 3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5603760" y="2727360"/>
            <a:ext cx="3413160" cy="1182600"/>
            <a:chOff x="5603760" y="2727360"/>
            <a:chExt cx="3413160" cy="1182600"/>
          </a:xfrm>
        </p:grpSpPr>
        <p:sp>
          <p:nvSpPr>
            <p:cNvPr id="1093" name=""/>
            <p:cNvSpPr/>
            <p:nvPr/>
          </p:nvSpPr>
          <p:spPr>
            <a:xfrm>
              <a:off x="5603760" y="3075120"/>
              <a:ext cx="3098880" cy="834840"/>
            </a:xfrm>
            <a:custGeom>
              <a:avLst/>
              <a:gdLst/>
              <a:ahLst/>
              <a:rect l="l" t="t" r="r" b="b"/>
              <a:pathLst>
                <a:path w="1952" h="526">
                  <a:moveTo>
                    <a:pt x="1902" y="218"/>
                  </a:moveTo>
                  <a:cubicBezTo>
                    <a:pt x="1853" y="169"/>
                    <a:pt x="1837" y="179"/>
                    <a:pt x="1763" y="168"/>
                  </a:cubicBezTo>
                  <a:cubicBezTo>
                    <a:pt x="1669" y="153"/>
                    <a:pt x="1581" y="137"/>
                    <a:pt x="1485" y="129"/>
                  </a:cubicBezTo>
                  <a:cubicBezTo>
                    <a:pt x="1284" y="61"/>
                    <a:pt x="1081" y="14"/>
                    <a:pt x="869" y="0"/>
                  </a:cubicBezTo>
                  <a:cubicBezTo>
                    <a:pt x="825" y="3"/>
                    <a:pt x="668" y="13"/>
                    <a:pt x="621" y="19"/>
                  </a:cubicBezTo>
                  <a:cubicBezTo>
                    <a:pt x="579" y="24"/>
                    <a:pt x="553" y="35"/>
                    <a:pt x="512" y="49"/>
                  </a:cubicBezTo>
                  <a:cubicBezTo>
                    <a:pt x="460" y="66"/>
                    <a:pt x="386" y="72"/>
                    <a:pt x="333" y="79"/>
                  </a:cubicBezTo>
                  <a:cubicBezTo>
                    <a:pt x="283" y="96"/>
                    <a:pt x="251" y="116"/>
                    <a:pt x="204" y="139"/>
                  </a:cubicBezTo>
                  <a:cubicBezTo>
                    <a:pt x="164" y="159"/>
                    <a:pt x="123" y="173"/>
                    <a:pt x="85" y="198"/>
                  </a:cubicBezTo>
                  <a:cubicBezTo>
                    <a:pt x="0" y="325"/>
                    <a:pt x="147" y="411"/>
                    <a:pt x="254" y="446"/>
                  </a:cubicBezTo>
                  <a:cubicBezTo>
                    <a:pt x="298" y="460"/>
                    <a:pt x="327" y="489"/>
                    <a:pt x="373" y="496"/>
                  </a:cubicBezTo>
                  <a:cubicBezTo>
                    <a:pt x="406" y="501"/>
                    <a:pt x="439" y="503"/>
                    <a:pt x="472" y="506"/>
                  </a:cubicBezTo>
                  <a:cubicBezTo>
                    <a:pt x="788" y="496"/>
                    <a:pt x="1101" y="497"/>
                    <a:pt x="1416" y="526"/>
                  </a:cubicBezTo>
                  <a:cubicBezTo>
                    <a:pt x="1434" y="525"/>
                    <a:pt x="1671" y="511"/>
                    <a:pt x="1704" y="506"/>
                  </a:cubicBezTo>
                  <a:cubicBezTo>
                    <a:pt x="1764" y="497"/>
                    <a:pt x="1806" y="470"/>
                    <a:pt x="1863" y="456"/>
                  </a:cubicBezTo>
                  <a:cubicBezTo>
                    <a:pt x="1883" y="443"/>
                    <a:pt x="1902" y="430"/>
                    <a:pt x="1922" y="417"/>
                  </a:cubicBezTo>
                  <a:cubicBezTo>
                    <a:pt x="1940" y="405"/>
                    <a:pt x="1935" y="377"/>
                    <a:pt x="1942" y="357"/>
                  </a:cubicBezTo>
                  <a:cubicBezTo>
                    <a:pt x="1945" y="347"/>
                    <a:pt x="1952" y="327"/>
                    <a:pt x="1952" y="327"/>
                  </a:cubicBezTo>
                  <a:cubicBezTo>
                    <a:pt x="1943" y="272"/>
                    <a:pt x="1939" y="255"/>
                    <a:pt x="1902" y="2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93160" y="2727360"/>
              <a:ext cx="182376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for 1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979040" y="5790600"/>
            <a:ext cx="1140840" cy="1078560"/>
            <a:chOff x="7979040" y="5790600"/>
            <a:chExt cx="1140840" cy="1078560"/>
          </a:xfrm>
        </p:grpSpPr>
        <p:pic>
          <p:nvPicPr>
            <p:cNvPr id="1096" name="" descr=""/>
            <p:cNvPicPr/>
            <p:nvPr/>
          </p:nvPicPr>
          <p:blipFill>
            <a:blip r:embed="rId12"/>
            <a:stretch/>
          </p:blipFill>
          <p:spPr>
            <a:xfrm>
              <a:off x="8516880" y="635472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7979040" y="579060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>
            <a:hlinkClick r:id="" action="ppaction://hlinkshowjump?jump=previousslide"/>
          </p:cNvPr>
          <p:cNvSpPr/>
          <p:nvPr/>
        </p:nvSpPr>
        <p:spPr>
          <a:xfrm>
            <a:off x="4114800" y="66358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Jorge Aravena</cp:lastModifiedBy>
  <dcterms:modified xsi:type="dcterms:W3CDTF">2004-09-28T03:23:49Z</dcterms:modified>
  <cp:revision>36</cp:revision>
  <dc:subject/>
  <dc:title>No Slide Title</dc:title>
</cp:coreProperties>
</file>